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2C3-27C1-45D2-8E57-72C59EF6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F14-D866-4E20-9DC2-476DB67D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5AD-785C-4AA4-B010-664474B8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5F7-312B-4C70-B421-0EAD31C0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717-0717-41DA-BD21-EEE46CF8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362-287A-4BE7-B0D4-E95C5B3E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8FD-2199-4BAF-AC28-59CB7656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362-17D3-4450-96AF-261D8084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15F-5946-41CA-B8DE-D3DB7B7C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A00-CE8A-48E8-BBC5-85AF7674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3E9-34EE-4FE1-A1ED-6BF1609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534-E28A-497F-A88E-FD2CD50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D223-5594-4BCB-B647-93AB7EBA11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CRAIGS                                  WHITECRAIGS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0" descr="Whitecraigs 2.JPG"/>
          <p:cNvPicPr/>
          <p:nvPr/>
        </p:nvPicPr>
        <p:blipFill>
          <a:blip r:embed="rId1"/>
          <a:stretch/>
        </p:blipFill>
        <p:spPr>
          <a:xfrm>
            <a:off x="415800" y="333360"/>
            <a:ext cx="1152720" cy="124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Whitecraigs 50th.JPG"/>
          <p:cNvPicPr/>
          <p:nvPr/>
        </p:nvPicPr>
        <p:blipFill>
          <a:blip r:embed="rId2"/>
          <a:stretch/>
        </p:blipFill>
        <p:spPr>
          <a:xfrm>
            <a:off x="2073240" y="333360"/>
            <a:ext cx="12430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43:42Z</dcterms:modified>
  <cp:revision>22</cp:revision>
  <dc:subject/>
  <dc:title>PowerPoint Presentation</dc:title>
</cp:coreProperties>
</file>